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3D3-DCE2-432E-8677-FA50FF03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6B7-80F2-403B-8489-A896205D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CF6-0CB0-4939-9744-5F7337C3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C30-D8DF-4C70-81CE-DF4C6E6D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5159-8428-42D1-AB7A-B91B9C19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9B6-D02A-45AF-8EF1-0DB9E13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66D8-FC50-4D36-BBF7-DEB6093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C68B-F495-494A-971F-BDBECF9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094-D847-4046-B487-E78AA38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8B87-BA08-42CE-99F3-1376A68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7EA-1FE0-4672-BEE9-B498EEE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B0F-7749-49D4-BDA9-98552C33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786-8D4D-4675-B58E-79F25A44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0C4B-66F3-4905-A479-23C5797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D629-E10A-41B7-BFF7-185CE197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4033-49D3-4423-9826-6D66E012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526-3A57-487C-AB46-D614FEB1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C37-3A91-453F-8F09-03059605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C37-6532-499F-9507-9764890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346-21CD-4BAE-A246-414E1431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846-C54E-4705-A035-55B9740B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4C4-B386-4EA1-AFA6-7DFFEB8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179-1017-4272-AF20-F65CF33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532-B442-4296-A004-E4AB908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5D7-8250-4167-BABE-7A1FC94FC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67F-1659-4B61-8E07-9BFE63CB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-Sept.1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homework sto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questions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 p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lly’s t-shirt has the latin phrase cave canem (beware of the dog) and pictures of these three well known dogs a german shepherd an english sheepdog and a bea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aw:laugh::_______: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:Century::cent: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sig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partner discuss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3:20:28Z</dcterms:created>
  <dc:creator>VMS</dc:creator>
  <dc:description/>
  <dc:language>en-US</dc:language>
  <cp:lastModifiedBy>VMS</cp:lastModifiedBy>
  <dcterms:modified xsi:type="dcterms:W3CDTF">2009-09-10T14:29:45Z</dcterms:modified>
  <cp:revision>2</cp:revision>
  <dc:subject/>
  <dc:title>English-Sept.10</dc:title>
</cp:coreProperties>
</file>